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Econonmics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carcity: Laws of Supply and Demand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:</a:t>
            </a:r>
            <a:r>
              <a:rPr b="1" lang="en-US" sz="3600" spc="-1" strike="noStrike">
                <a:solidFill>
                  <a:srgbClr val="000000"/>
                </a:solidFill>
                <a:latin typeface="Baskerville"/>
              </a:rPr>
              <a:t>Mythconceptions:</a:t>
            </a:r>
            <a:br>
              <a:rPr sz="1200"/>
            </a:b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carcity is more of a problem for the poor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People face scarcity; governments do not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Producers make choices differently than consumer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We can have more without giving up anything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Good choices don’t have cost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:</a:t>
            </a:r>
            <a:r>
              <a:rPr b="1" lang="en-US" sz="3600" spc="-1" strike="noStrike">
                <a:solidFill>
                  <a:srgbClr val="000000"/>
                </a:solidFill>
                <a:latin typeface="Baskerville"/>
              </a:rPr>
              <a:t>Mythconceptions:</a:t>
            </a:r>
            <a:br>
              <a:rPr sz="1200"/>
            </a:b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Good decision-making means being able to distinguish between good and bad alternative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ometimes, you just have no choic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Once a choice is made people must stick to it.  Once you’ve made a choice, you should stick to it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Descision models, trade-offs, and opportunity costs only apply in busines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carcity is the condition of not being able to have all of the goods and services one want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t exists because human wants for goods and services exceed the quantity of goods and services that can be produced using all available resource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ke individual, governments and societies experience scarcity . 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7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We live in a world of relative scarcity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carcity exists when resources have more than one valuable us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carcity exists even in the midst of abundanc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carcity forces people to choose between alternative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carcity is a fundamental economic condition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economic condition forces everyone 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marL="12063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nsumers and producers – to make choices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People choose purposefully from the alternatives they perceiv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Individuals’ evaluation of alternatives is subjective. 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carcity is dealt with more effectively by recognizing that the distinction between needs and wants is subjectiv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Choices involve trading off the expected value of one opportunity against the expected value of its best alternative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The evaluation of choices and opportunity costs is subjective; such evaluations differ across individuals and societies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Societies devise different systems of allocation to systematically address the necessity of choice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"/>
              </a:rPr>
              <a:t>The subjectivity of distinctions between needs and wants.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Scarcity: Trade-off and Opportunity Costs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rade-offs: </a:t>
            </a:r>
            <a:r>
              <a:rPr b="0" lang="en-US" sz="3000" spc="-1" strike="noStrike">
                <a:solidFill>
                  <a:srgbClr val="595650"/>
                </a:solidFill>
                <a:latin typeface="Baskerville"/>
              </a:rPr>
              <a:t>Giving up one thing in order to get something preferred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Opportunity Costs: </a:t>
            </a:r>
            <a:r>
              <a:rPr b="0" lang="en-US" sz="3000" spc="-1" strike="noStrike">
                <a:solidFill>
                  <a:srgbClr val="000000"/>
                </a:solidFill>
                <a:latin typeface="Baskerville"/>
              </a:rPr>
              <a:t>the next best alternative NOT chosen 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While there may be several alternatives, there is only one opportunity cost.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Scarcity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</a:rPr>
              <a:t>The opportunity cost of choosing one alternative is the value given up by not taking advantage of the next best alternative.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</a:rPr>
              <a:t>To choose is to refuse:  the decision to take the benefits of one alternative means refusing the benefits associated with the next-best opportunity.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</a:rPr>
              <a:t>We seldom make all-or-nothing decisions; everyday life is an exercise in marginal decision-making.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</a:rPr>
              <a:t>Decisions to continue or discontinue an activity are made by weighing the additional expected benefits against the additional expected costs.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